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317-C780-488D-9C83-6E33FA44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BE3-5F8D-44E0-827F-2C7052AD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E31-07C6-437D-A9BA-2FDAA48B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C93-51D3-4D30-AEAB-A7651D58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79B6-2ACC-4897-9507-4F425593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F5EC-D787-4613-B7C2-925E8292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7DD2-CD4A-41B0-84A6-4FF06578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4F28-8DF2-4D6B-AAE3-E7F3EFAB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A426-AF92-49DF-B0C6-80D301AE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0840-1817-439B-92B0-0CEA3763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0B35-6E24-41CE-85F6-17D499E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6B2-6366-478B-AC45-9A77E59D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DC18-73E0-45E2-B0B8-99AF5A23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25DD-D729-4804-A29E-F686092B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F200-A63C-46F2-923B-009A9EA8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08A9-19A4-4778-A01E-9E8C58DA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0E31-1924-4D88-B333-9C49D019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636-10C1-481E-8F30-D4A7DAD0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766-EECD-4A93-BE76-1A6E454B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E1C-EDA6-4426-BAC7-5164FC9C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F4A-5D2B-4DF6-B2C9-87DAC259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67D-7C8B-4012-B583-B01C8F47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FF1-8A1E-4ED8-B479-B6E411DF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EAB-C41E-429F-B2A2-50BA7FCD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7F2D-0048-480D-9C16-C39531B23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8186-603C-4D92-84D5-C2DBF5515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353440" cy="21603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80808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Comic Sans MS"/>
              </a:rPr>
              <a:t>Престижный Университет  Франции- Сорбонна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doni MT Black"/>
              </a:rPr>
              <a:t>Выполнил: ученик 8г.класса Иванов Ив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Paris V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конец, университет имени Рене Декарта, он же университет ParisV, расположен на улице Эколь де Медсин. Число студентов - около 30 тысяч. В состав университета входят факультеты и отделения биомедицины, детских болезней, зубной хирургии, физкультуры и спорта, фармацевтики и биологии, математики и информатики, гуманитарных и социальных наук, психологии, права. Отдельная структура - Технологический институт (со статусом университета), имеющий отделение медицинского прав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cc"/>
                </a:solidFill>
                <a:latin typeface="Goudy Stout"/>
              </a:rPr>
              <a:t>Что нужно для того чтобы обучаться во Франции? Рекомендации для иностранных студентов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331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остранцу поступить в университеты, объединенные легендарной маркой Сорбонна, нелегко, поскольку мест в них не хватает даже всем желающим из числа французов. Тем не менее, некоторым это уд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жде чем говорить о поступлении, необходимо еще раз напомнить одну очень важную деталь: диплом государственного университета (так называемый Diplome d'Etat) во Франции ценится куда больше, чем диплом, полученный в частном заведении (а 99% высших школ - частные). Французы считают, что государственные университеты (их ц стране около 80) имеют очень много плюсов по сравнению с любым частным вузом. Во-первых, учебные планы университета регламентированы и стандартизованы Министерством национального образования, во-вторых, к преподаванию в них допускаются только те, кто защитил диссертацию и прошел длительный конкурс (часто документы на него подаются чуть ли не за год вперед). Их социальный статус приравнивается к госслужащим, а стабильный доход (каки квалификация) гарантирован прави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3598920" cy="2054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63640" y="4724280"/>
            <a:ext cx="2160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916360" y="404280"/>
            <a:ext cx="5929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ем иностранных студентов - одна из старейших традиций, к сохранению которой французы сейчас прикладывают большие усилия. Зачастую львиную долю учащихся-иностранцев составляют студенты из франкоязычных стран Африки. Обучение каждого из них обходится казне в 35 тыс. франков в год, однако в знак уважения принципов равенства и братства граждан других стран зачисляют в государственные учебные заведения на тех же условиях, что и собственных. То есть иностранец платит за обучение в университете около 550 евро в год. По французским меркам это мизерная сумма, чт 1000 о позволяет назвать образование бесплатным. Однако для того чтобы получить студенческую визу и вид на жительство, стипендию, нужно доказать, что у вас достаточно денег на оплату проживания во время уче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лавное требование при приеме в Сорбонну, как и в другие французские университеты, -представить документ о среднем образовании -"аттестат бакалавра" (ВАС), имеющий несколько разновидностей в зависимости от типа средней школы. Для поступления в университет необходим аттестат, дающий доступ к университетскому образованию (Diplome d'Acces aux Etudes Universitaires, DAEU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273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шение о соответствии зарубежного аттестата зрелости французскому стандарту выносит конкретное учебное заведение, в которое намерен поступать иностранный абитуриент. Российский аттестат о среднем образовании признается не везде, поэтому желательно добавить к нему как минимум годичный опыт обучения в российском вузе. И даже в этом случае нужно быть готовым выдержать конкурсный экзамен по французскому язы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ако ряд высших школ принимает только тех, кто уже окончил два курса и получил диплом об общем университетском образовании DEUG или аналогичные ему дипломы (во Франции таких дипломов с полдюжины), или тех, кто закончил двухгодичные подготовительные курсы при самой школе. Если вам удастся уговорить комиссию приравнять ваши два первых курса университета к французской степени бакалавра, то обучение в "высшей школе" вы начнете наравне с прочими студ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64000" y="479736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alibri"/>
              </a:rPr>
              <a:t>Подтверждение ваших знаний французского язык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прочих равных условиях предпочтение всегда отдается тем, кто лучше знает французский. Поступление в университет предусматривает обязательную проверку того, насколько свободно вы объясняетесь по-французски. От этой процедуры избавляет только диплом DALF (Diplome Approfondi de Langue Francaise). Сдать экзамен на этот диплом (а также и подготовиться к нему) в России можно в офисах Французского культурного центра в Москве, Санкт-Петербурге, Краснодаре и Сарато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3649320"/>
            <a:ext cx="734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формление заявки на поступление. Французы рекомендуют начинать сам процесс поступления как минимум за год. Можно воспользоваться помощью все того же Французского культурного центра. В этом случае до декабря нужно получить там бланк заявки, заполнить его, приложить заверенный перевод свидетельства о рождении, аттестата, для студентов - еще и выписку из зачетки и не позже начала января отдать обратно. Рекомендуется указывать два вуза в порядке приоритетности - на случай, если первый не захочет вас принять. Информация практически обо всех учебных заведениях страны есть в читальном зале Французского культурного центра в Москве и в культурном отделе посольства Фран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ookman Old Style"/>
              </a:rPr>
              <a:t>Выбор и подача заяв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ранее подумайте о том, где именно вы хотите учиться. Во Франции престиж университетского диплома зависит от местоположения вуза гораздо меньше, чем у нас, в России. Совсем не обязательно ехать учиться именно в Париж. Поступить там сложнее, жить - дороже, снять комнату - труднее. В Париже и всем регионе Иль-де-Франс жилье стоит почти в полтора раза дороже, чем в провинции (приблизительно 1,5-3 тыс. франков в месяц. Для сравнения: в провинции -1,5-2 тыс.). Студенческие общежития обходятся дешевле, но это не подарок, и к тому же мест там хронически не хвата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может быть, вам стоит взять пример с французов. Они очень часто выбирают учебно 2000 е заведение, которое находится там, где параллельно с учебой нашлось и место работы. Французы заранее, примерно за полгода до поступления, начнут рассылать бесчисленные резюме и висеть на телефоне. А еще француз совершенно точно поедет туда, где имеется возможность получить какой-либо грант или стипендию от регионального или городского совета или от научной ассоци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244440"/>
            <a:ext cx="83883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стати говоря, вы тоже можете подать документы на получение стипендии французского правительства (550-1000 евро в месяц), компенсирующую затраты на учебу. Есть и стипендии, компенсирующие стоимость проживания (например, если вам не досталось место в общежитии и пришлось снимать квартиру). При оформлении стипендии через Французское посольство запрос на ее получение должен быть отправлен до апреля. Существуют и стипендии университетов. Например, упомянутая нами Канцелярия Сорбонны ежегодно учреждает 15 собственных стипендий по 80 тыс. французских франков для аспирантов и 12 премий от 14 до 60 тыс. франков, обладателями которых могут стать студенты и преподават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Оформление студенческой виз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вам прислали документ о зачислении, отправляйте подтверждение о его получении и намерении учиться и начинайте заниматься визой. Студенческую визу посольство оформляет не больше трех месяцев, причем, как показала практика, в случаях цейтнота идут навстречу соискателю и сокращают срок, чтобы студент не опоздал к началу учебного года. Визовый отдел посольства требует следующие бумаги: квитанцию об оплате обучения, нотариально заверенный перевод на французский язык диплома или академической справки (кстати, этот же перевод ранее придется отправить в университет) и, наконец, ваше заявление на французском с изложением причин выбора страны обучения, учебного заведения и профессиональными план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 недавнего времени любому иностранцу, въезжающему на учебу во Францию, требовался гарант. Им должен был быть гражданин Франции, который в случае банкротства студента брал бы на себя его долги (за обучение и прочие). На эту роль подходили только французы с доходом, превышающим 2.700 франков в месяц. Надо сказать, что российские соискатели французского образования, в массе своей не имеющие богатых близких друзей во Франции, все же находили обходные пути. Наверное, поэтому теперь посольство принимает прошения о визе и при отсутствии спонсоров-французов. Но с условием, что у студента на счету во французском банке есть минимум 4.000 евро на учебный год (это, правда, противоречит российскому законодательству, по которому российский гражданин не имеет права открывать счета в иностранном банке) либо банковское подтверждение о ежемесячном переводе в 400 евро (что законнее: такое подтверждение может дать и российский бан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pperplate Gothic Bold"/>
              </a:rPr>
              <a:t>Сорбонна. История Унивеситет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7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244440"/>
            <a:ext cx="7078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037f"/>
                </a:solidFill>
                <a:latin typeface="Cooper Black"/>
              </a:rPr>
              <a:t>Сколько нужно денег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т мы и добрались до самой трепетной темы. Большинство россиян, примеряя к себе французское образование, подразумевают Париж. Жизнь в столице Франции, как и в любой другой столице, обходится дорого. Парижские университеты действительно стоят от 500 евро в год, но еще 300 евро в месяц требуется на жилье и 300 евро в месяц на жизнь. Получается, что в год учеба в Париже обойдется не меньше чем в 9.000 евро. Поэтому при выборе Сорбонны будьте готовы, что вам, возможно, придется в свободное время подрабатывать (например, обратившись в агентство "Третий возраст", всегда можно найти работу по уходу за престарелыми). Что же касается высших школ, то учеба там дороже, чем в университетах: 5.000 евро в год и выше, зато они более престижные. Есть, правда, исключение: Высшая коммерческая школа стоит 3.000 евро в год со стажировками. А вот Высшая школа кулинарии и гостиничного хозяйства ~ 1.000 франков в год. Свои национальные ценности французы дешево не продадут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16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852280"/>
            <a:ext cx="80074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университеты в составе </a:t>
            </a:r>
            <a:r>
              <a:rPr b="0" lang="ru-RU" sz="1600" spc="-1" strike="noStrike">
                <a:solidFill>
                  <a:srgbClr val="f50505"/>
                </a:solidFill>
                <a:latin typeface="Arial"/>
              </a:rPr>
              <a:t>Сорбонн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государственные, следовательно, обучение в них ведется бесплатно. Однако для того чтобы получить студенческую визу и вид на жительство, стипендию, нужно доказать, что у вас достаточно денег на оплату проживания во время уче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вы сможете продемонстрировать выдающиеся достижения уже во время учебы, возможно, вам удастся получить стипендию. Например, в упомянутой нами Канцелярии. Ежегодно она учреждает 15 собственных стипендий по 80 тыс. французских франков для аспирантов и 12 премий от 14 до 60 тыс. франков, обладателями которых могут стать студенты и преподават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тогда - Париж у ваших ног! А это, по словам писателя Жана Жироду, «пять тысяч гектаров земли, о которых в мире писали больше, чем о каком-либо клочке суши на свете». Так что на этом и закончим, а выводы делайте с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303640" cy="2124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2663640" cy="244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252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703"/>
                </a:solidFill>
                <a:latin typeface="Berlin Sans FB"/>
              </a:rPr>
              <a:t>История возникновения</a:t>
            </a:r>
            <a:r>
              <a:rPr b="1" lang="en-US" sz="2400" spc="-1" strike="noStrike">
                <a:solidFill>
                  <a:srgbClr val="fdf703"/>
                </a:solidFill>
                <a:latin typeface="Berlin Sans FB"/>
              </a:rPr>
              <a:t>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40360" y="1268280"/>
            <a:ext cx="4705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я </a:t>
            </a:r>
            <a:r>
              <a:rPr b="0" lang="ru-RU" sz="1800" spc="-1" strike="noStrike">
                <a:solidFill>
                  <a:srgbClr val="f50505"/>
                </a:solidFill>
                <a:latin typeface="Arial"/>
              </a:rPr>
              <a:t>Сорбон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чинается с 1215 г., когда несколько церковных школ объединились в Парижский университет. Первоначально он имел 4 факультета: вольных искусств, канонического права, медицины и теологии. Уже в 13 в. университет стал одним из крупнейших в Евро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257 г. теолог </a:t>
            </a:r>
            <a:r>
              <a:rPr b="0" lang="ru-RU" sz="1800" spc="-1" strike="noStrike">
                <a:solidFill>
                  <a:srgbClr val="f50505"/>
                </a:solidFill>
                <a:latin typeface="Arial"/>
              </a:rPr>
              <a:t>Робер де Сорб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духовник короля Людовика IX Святого, основал в Париже богословский колледж для детей из бедных семей. Вначале это учебное заведение было рассчитано на 16 учащихся, по 4 от каждой из наций, имевших более всего представителей среди парижских студентов (французы, немцы, англичане и итальянцы). Но вскоре появилась возможность определить комплект в 36 учащихся. Не прошло и 50 лет, как известность колледжа затмила многие богословские заведения Европ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2879640" cy="252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47640" y="4581360"/>
            <a:ext cx="1872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554 г. колледж получил название Сорбонна и постепенно объединился с теологическим факультетом Парижского университета. Курс обучения был 10-летний, и на последнем экзамене студент подвергался с 6 часов утра до 6 часов вечера нападению 20 диспутантов, которые сменялись каждые полчаса, он же был лишён отдыха и не имел права за все 12 часов экзамена ни пить, ни есть. Выдержавший испытание становился доктором Сорбонны (docteur en Sorbonne) и увенчивался особой чёрной шапочкой. Репутация Сорбонны настолько возросла, что вскоре её руководители заявили, что титул доктора они будут давать только одному члену каждого из монашеских орде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7 в. название Сорбонна распространилось на весь Парижский университ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звание </a:t>
            </a:r>
            <a:r>
              <a:rPr b="0" lang="ru-RU" sz="1600" spc="-1" strike="noStrike">
                <a:solidFill>
                  <a:srgbClr val="f50505"/>
                </a:solidFill>
                <a:latin typeface="Arial"/>
              </a:rPr>
              <a:t>Sorbonne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здавна воспринимается как символ первоклассных знаний, как эталон не только французского, но и всего классического европейского образования в целом. Это больше, чем просто университет. Это... несколько университетов, объединенных в единое цел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много истор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рижский университет - старейший в Европе - был основан в 1215 году. С первого дня своего существования он задумывался как учебное заведение международного масштаба. На четырех его факультетах - богословия, права, медицины и искусств - обучались не только французы и англичане, но также пикардийцы и нормандцы, которые в те средневековые времена еще не входили в состав французской нации, а считали себя отдельными народа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рно 40 лет спустя по инициативе одного влиятельного монаха, духовника Людовика IX, для неимущих студентов университета открыли коллеж - говоря современным языком, учебный институт, в котором студенты и преподаватели и учились, и жили одновременно. Этого монаха звали Робер де Сорбон, а основанный им в 1257-1258 годах коллеж довольно скоро превратился в богословский факультет университета, который стал именоваться Сорбонной. Начиная с XVII века именем факультета, который быстро сделался одним из центров не только богословской, но и философской европейской мысли и снискал себе громкую славу, стали называть и весь Парижский университе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XVII веке кардинал Ришелье обновил и расширил Сорбонну, но в 1791 году, после Французской революции 1789 года, она была закрыта. В 1821 году университет,, вновь открылся. В разные годы в Сорбонне работали такие выдающиеся ученые, как Жозеф Гей-Люссак, Антуан Лавуазье, Луи Пастер, Пьер и Мария Кюри и многие другие. Не обошлось и без исторических парадоксов. Основанная как школа богословия, к середине XIX века Сорбонна превратилась в центр не только светского образования, но и антиклерикальной мысл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3068280"/>
            <a:ext cx="8018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же в наше время, в 1968 году, в ходе знаменитой "майской революции" именно в Сорбонне начались беспорядки, переросшие затем во всеобщую студенческую забастовку, которая привела к перестройке всей системы французского высшего образования. В результате этих событий гигантский университет был расчленен на части, которые получили статус автономных вузов. Это университеты ParisI, называемый также Пантеон-Сорбонна (Pantheon-Sorbonne); ParisIII (Новая Сорбонна; SorbonneNouvelle); ParisIV (Париж-Сорбонна; Paris Sorbonne) и Paris V (университет имени Рене Декарта; Universite Rene Descartes). Они имеют единую инфраструктуру (например, одну на всех Межуниверситетскую библиотеку), а также общие для всего этого конгломерата административные и учебные единицы - Практическую школу высшего образования (EcolePratiquedesHautesEtudes), Национальную школу хартий (EcoledesChartes), Канцелярию парижских университетов и Академический ректор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 Black"/>
              </a:rPr>
              <a:t>Автономные вузы Сорбонны.</a:t>
            </a: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f50505"/>
                </a:solidFill>
                <a:latin typeface="Arial Unicode MS"/>
              </a:rPr>
              <a:t>Paris 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3789360"/>
            <a:ext cx="8007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нтеон-Сорбонна, также именуемый ParisI, обязан своим именем площади Пантеона, на которой расположен. Здесь учится около 40 тыс. студентов. Университет включает в себя факультеты права, экономики, истории искусств и археологии, изобразительных искусств и искусствоведения, бизнес-права, управления и менеджмента, международных и европейских отношений, географии, истории, философии, политических наук, социальных наук, общего права, математики и информатики. В его структуру входят также четыре института (демографии Парижа, экономического и социального развития, социальных вопросов труда, туризма) и сеть специализированных высших учебных заведений, занятых подготовкой кадров в области банковского дела, финансов и страхо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95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50505"/>
                </a:solidFill>
                <a:latin typeface="Arial Unicode MS"/>
              </a:rPr>
              <a:t>Paris II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ая Сорбонна, или университет ParisIII, расположенный на улице Сорбонны, отличается чуть более скромными размерами и ярко выраженной гуманитарной направленностью. Около 20 тыс. студентов грызут здесь гранит науки на факультетах французского и латинского языков и литературы, общего и прикладного языкознания и фонетики, общего и сравнительного литературоведения, преподавания французского языка как иностранного, немецкого языка, англоязычного мира, испанистики и стран Латинской Америки, страноведения Италии и Румынии, востоковедения и арабистики, театроведения, киноведения, средств массовой коммуникации. При университете действуют два специализированных учебных заведения: Институт стран Латинской Америки и Высшая Школа Переводчи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476280"/>
            <a:ext cx="13669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Paris IV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верситет Париж-Сорбонна, или ParisIV, расположенный на улице Виктора Кузена, дает духовную и интеллектуальную пищу более чем 25 тысячам студентов. Это учебное заведение включает факультеты французской литературы, французского языка, латинского языка, греческого языка, английского языка и стран Северной Америки, итальянского и румынского языков, славистики, испанистики и стран Латинской Америки, истории, географии, философии, истории искусств и археологии, музыки и музыковедения, прикладных гуманитарных наук. При университете создан исследовательский институт по изучению цивилизаций современного Запада, а также Высшая школа информационных наук и коммуникации, Институт религиоведения, Институт физкультуры и спор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1366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57:51Z</dcterms:created>
  <dc:creator>Валюша</dc:creator>
  <dc:description/>
  <dc:language>en-US</dc:language>
  <cp:lastModifiedBy>User_04</cp:lastModifiedBy>
  <dcterms:modified xsi:type="dcterms:W3CDTF">2009-12-08T09:25:13Z</dcterms:modified>
  <cp:revision>3</cp:revision>
  <dc:subject/>
  <dc:title>Престижный Университет  Франции- Сорбонна.</dc:title>
</cp:coreProperties>
</file>